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0CD7-AFC0-4643-A104-994E753EA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ADA7-631B-4FD3-9D68-70F06BD42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ECF-CF0E-4449-9969-D63FBE6E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88D-DC9E-4C58-B2F0-553C55F9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6EF-9C2A-4494-8357-2449454F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555-32DA-4580-A15F-9490CE11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F87-CA4E-423E-BC38-774F1F90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616-C359-422D-BBB3-C03C06D2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208-F291-4DCF-8E4E-B4C8D02B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75C-F571-47A4-88B7-D5BACA09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849-FE99-4D89-864A-F138B59A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F6E-BB7A-49B3-A77B-ADCAEC9A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389-EAED-4182-9D1C-0098D037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7DC-93EF-4558-BDF0-27F95D6F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AF8A-AFF7-4E57-A3A5-B62DF09EF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1828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gie Yous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0574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gie Yous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152280" y="2286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7"/>
          <p:cNvSpPr/>
          <p:nvPr/>
        </p:nvSpPr>
        <p:spPr>
          <a:xfrm>
            <a:off x="0" y="2666880"/>
            <a:ext cx="1752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Angie. Yo tengo catorce años. Yo vivo en Nueva York. Yo estoy feliz y dulce.  Te amo cantar y nadar. Yo tengo cuatro hermanas. Yo soy de Egipto . Mi amo de familia y amigos . Mis amigos y yo somos felices juntos. Espero oír de usted pronto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352680"/>
            <a:ext cx="568080" cy="822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60958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!De nada, mi alta y divertida amiga. Podemos cantar y bailar y correr y escribir y comer el helado. TIenes para traer su herma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5715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uy bien gracias. Sí, quiero y puedo ir a tú casa, Gracias mi simpática, linda y dulce amiga. ¡Hasta luego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¿Cómo estan amigas? ¿Quieren venir a mi casa a las  7 de trien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60958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í voy a traer a mi hermana.Esta va a ser divertido. Estamos felices de algunos . Tener la comida lista.!Hasta la vista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57150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chelle ¿como estatas¿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5" descr="Photo on 2011-10-21 at 13.39 #2.jpg"/>
          <p:cNvPicPr/>
          <p:nvPr/>
        </p:nvPicPr>
        <p:blipFill>
          <a:blip r:embed="rId12"/>
          <a:stretch/>
        </p:blipFill>
        <p:spPr>
          <a:xfrm>
            <a:off x="1962000" y="4492800"/>
            <a:ext cx="72072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cp:lastPrinted>2012-12-06T18:31:48Z</cp:lastPrinted>
  <dcterms:modified xsi:type="dcterms:W3CDTF">2012-12-06T18:32:08Z</dcterms:modified>
  <cp:revision>113</cp:revision>
  <dc:subject/>
  <dc:title>Profile</dc:title>
</cp:coreProperties>
</file>